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4AF-B4AF-4390-853F-A0E9BF83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231-935B-4243-B9C4-53A97A1B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0FF-4A25-4249-AC7F-BE3BA5D6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7C9-A742-48F1-A628-E81EDC84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94C-C635-4356-86FC-C721358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CD6-9579-4737-8E7A-24D2ACC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7DE4-BC3B-4E23-8929-AFE3518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C2ED-6A7A-47A0-A753-1643ADC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E222-9FDE-47FD-A8D6-E06EA05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484-A757-4C0E-881A-99ADED0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AFA-2645-44EA-A4BF-F5CA671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288-BC29-4280-A211-563722C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AA9-8E0B-478F-8D10-A89F0C9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75F-DF5E-45F8-9756-4D5BC88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465-6185-4D46-A090-5274871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1110-A3AE-4344-99E4-41FC511E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A85-71B7-41DA-8CCB-BAD4833F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235-C297-4C2F-85DD-0563105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768-DC7A-4DFB-A158-350C4F6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895-3FC1-4058-8D01-371331E4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0AD-7C24-4695-A197-C74B353F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FF4-20AE-4E0B-870E-B85D0B3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6A2-1DB6-4006-9A78-3866C94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C98-7EB5-43F3-A8EE-7D24F6A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BF1A-E684-4195-B65C-21EBA13BA4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0F97-AC3D-4EAC-B85B-5FF33DC830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iterary Reading Group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cussion Dir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leader of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each person has an opportunity to present their find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 to PLOT elements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cussion Dir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nd list 8-10 OPEN-ENDED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 prompt discuss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think…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182088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ord Fin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cabulary/Interesting words in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10 new and/or interesting words in the text. Ci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 and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with group what THEY think it me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80320" y="533520"/>
            <a:ext cx="2111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ord Fin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dictionary definition that supports the word’s context in the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Don’t list ALL the definitions..just the one that makes sense in the sentence from the story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289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ssage Pick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passages relating to the PLOT elements (approx. 5-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Page number/paragrap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passage alo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why you chose and which part of the PLOT elements this passage sup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05720" y="5057640"/>
            <a:ext cx="2143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n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specific parts of the story to apply “connections” to your own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- a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nother story you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omething a friend ‘told’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8 connections. List page number/paragrph and read aloud. Then explain your conn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94600" y="22860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tful Artist (if needed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de on a thinking map to create with the 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-a bubble map on one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low map the PLOT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rough draft that you fill in, then use it as a guide for the one you create with the group and comp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7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iterary Group Discussion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Director leads group and chooses who’s turn it is to present their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ONE must participate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OURTEOUS..Don’t interrupt others, but be sure to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JOY LEARNING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4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35:36Z</dcterms:created>
  <dc:creator>cmorrison</dc:creator>
  <dc:description/>
  <dc:language>en-US</dc:language>
  <cp:lastModifiedBy>cmorrison</cp:lastModifiedBy>
  <dcterms:modified xsi:type="dcterms:W3CDTF">2009-08-24T15:40:51Z</dcterms:modified>
  <cp:revision>3</cp:revision>
  <dc:subject/>
  <dc:title>Literary Reading Groups</dc:title>
</cp:coreProperties>
</file>